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02E4-13CF-4B05-8D5E-0588FFA83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835B-8729-4E40-AD64-BE94FA6C9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  <a:ea typeface="Cordi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0E6-3918-4669-A0D3-CF8BCC98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610-637F-4C46-90BB-CB0752D7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EEB-0DEC-4F3E-983F-481AD295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2B7-32D5-4E9E-8C7B-409C599F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AE33-DA81-48BB-AFDB-D9AFD77C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1060-0BE3-48E6-9C3D-0CDAF853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F56C-7925-485A-A68B-7910F054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F4BF-6CD8-4335-8932-1B1B013B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5428-2255-4240-84D2-245F483A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93F1-FB6D-4A1C-9543-B9952857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7448-0B35-4E7F-AAA6-B48B712B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CB03-17EF-4DC0-8B2D-A9898F4D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3395-1F31-43F1-B840-02E2B1AB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6D3A-2B72-4091-AEE2-3B715432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FDDA-4F87-433A-9579-8F2823F0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6B50-AB8D-4913-9979-CB3B075F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1653-4E15-4B64-9F7C-87EE57B8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0F57-EAC9-452E-A4FE-BF1F05C1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A2B-6B5D-4994-9BE8-3A2F0CC5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AAD-825B-4025-A835-314E88D5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65A3-0981-4D5B-99BF-7B713F9B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EBD-FD7B-4993-ADC2-154397C0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398-B408-4E74-9B0A-369E4F9B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6B1-3367-4202-ACAD-B82B5C22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A5DF-2568-45AA-9E50-00B9A932E30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463C-5CC5-4CCF-B7AE-CA23B1E09B5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Dissertation Proposal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4920" y="342864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John R. Slate, Ph.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DLD 639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42600" y="779400"/>
            <a:ext cx="91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http://education.tamuk.edu/kfjs002/DoctoralDissertationProgram/DissertationProposal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24/8/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9080" y="2285640"/>
            <a:ext cx="5257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esearch Question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(to be answered or investigated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y be quantitativ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y be qualitativ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y have both types presen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ust be answerable through data collection and analysi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search Hypothes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not null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 prefer having null first, followed by the research hypothesis for each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te that hypotheses are only relevant for quantitative research ques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ignificance of the Stud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relevance, need—may overlap with the statement of problem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respond to this as if somebody said about your study, “So, what?”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ssumption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postulate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will you have to assume to conduct your study? If survey questions, that respondents will answer truthfully, etc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9080" y="1904760"/>
            <a:ext cx="52578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imitations and Delimitations of the Stud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limitation is a factor that may affect the study but is not under your control such as a lack of generalizabil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9080" y="1981080"/>
            <a:ext cx="5257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delimitation is a factor that is under your control. You might choose to look only at teachers in a particular state or coun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efinition of Term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largely conceptual here-with citations; operational definitions may follow in Methodology Chapter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e a citation for each term you define. Define all jargon and unfamiliar terms. When in doubt, defin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rganization of the Stud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outline remainder of the proposal in narrative form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ast section of Chapter I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VIEW OF THE LITERATU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ntroduction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organization of the chapter – overview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 like to have students tell the reader each subheading that will be discussed, followed by “A summary will conclude this section.”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VIEW OF THE LITERATU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9080" y="1981080"/>
            <a:ext cx="5257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istorical Background/Overview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overview of the theory and research literature)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279080" y="3657240"/>
            <a:ext cx="52578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ken from Dissertation Guidelines WORD document Dr. Stallone Brown’s websit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VIEW OF THE LITERATU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heory/research specific to the topic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sections/subsections should match questions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VIEW OF THE LITERATU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9080" y="2285640"/>
            <a:ext cx="5257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view of Literature Summar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what is known and unknown about the topic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VIEW OF THE LITERATU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ntribution of the Stud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what this study will add to the field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VIEW OF THE LITERATU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79080" y="2133720"/>
            <a:ext cx="54262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iterature review is an intensive, extensive, and exhaustive search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mpirical research articles bes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rimary sources critical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istorical context importan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9080" y="2285640"/>
            <a:ext cx="5257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ntroduction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organization of the chapter – overview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search Question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restated her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ame exact wording as they appeared in Chapter I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9080" y="1981080"/>
            <a:ext cx="5257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ull Hypothes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needed for quantitative research questions)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 also like the research hypotheses to reappear he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9080" y="1981080"/>
            <a:ext cx="5257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search Methodolog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quantitative, qualitative, or mixed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asons why methodology selected is appropriate to address research questions in stud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search Design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e.g., correlational, comparative, descriptive, etc.—Explain your variables of analysis here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opulation and Sampl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Define very specifically the population AND sampl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ontents and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outline for the formal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Dissertation Proposa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follows. Not all of the sections outlined here may be appropriate for all dissertations. Consult with your chair if you have questions about whether or not to include a particular section in your work. *Generally (except for introductions, summaries, and literature review), proposals are written in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explaining what the researcher “will” do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9080" y="2133720"/>
            <a:ext cx="5257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nstrumentation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tests, measures, observations, scales, and questionnaire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cedur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Field, classroom or laboratory e.g., instructions to subjects or distribution of materials; data collection and recording—everything BEFORE analysis)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9080" y="1981080"/>
            <a:ext cx="5257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ata Analysi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statistical analysis or qualitative analysis explained in detail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9080" y="2209320"/>
            <a:ext cx="5257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liability and Validity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(here or as a subheading UNDER Instrumentation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II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9080" y="2285640"/>
            <a:ext cx="5257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ummary of Methodolog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ACK MAT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ferenc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must be in APA format)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ppendic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each Appendix has own title page; IRB in one appendix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ita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PA Referenc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9440" y="1981080"/>
            <a:ext cx="55022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ttp://citationmachine.net/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ample Proposal Defens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ttp://education.tamuk.edu/kfmns00/Main%20Page/PPP_Proposal-B_Sp%2006.ppt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ttp://education.tamuk.edu/kfmns00/Main%20Page/Dissertation%20Proposal%2010_04_06.pp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ample Proposal Defens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ttp://education.tamuk.edu/kfmns00/Main%20Page/music%20prop.pp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ttp://education.tamuk.edu/kfmns00/Main%20Page/The%20Impact%20of%20School%20Culture%20PPP%20July%2026.pp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ample Proposal Defens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ttp://education.tamuk.edu/kfmns00/Dissertation-Proposal-wang.pp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ttp://education.tamuk.edu/kfmns00/Main%20Page/Dissertation%20Proposal%204.6.06.pp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Verb Tens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*Generally (except for introductions, summaries, and literature review), proposals are written in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future tens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, explaining what the researcher “will” do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RONT MAT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itle Pag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pproval Pag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bstract (maximum of 350 words; written in future tense-</a:t>
            </a: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optional for proposal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RONT MATTER (cont.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9080" y="2209320"/>
            <a:ext cx="5257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ist of Tabl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ist of Figur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752120"/>
            <a:ext cx="5257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ntroduction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Introducing the topic of study—2 to 3 page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ere you set the stage for the reader to read furthe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tatement of the Problem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basic difficulty - area of concern, felt need and goal to be achieved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ke your case here that this is a relevant issue – one that begs to be addresse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APTER I INT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urpose of the Stud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(goal oriented-emphasizing practical outcomes that “may” occur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y not be “So I can graduate.”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do you hope/anticipate being able to do with the results of your study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8:44:13Z</dcterms:created>
  <dc:creator>Dr John Slate</dc:creator>
  <dc:description/>
  <cp:keywords/>
  <dc:language>en-US</dc:language>
  <cp:lastModifiedBy>farhad</cp:lastModifiedBy>
  <dcterms:modified xsi:type="dcterms:W3CDTF">2012-01-03T10:32:59Z</dcterms:modified>
  <cp:revision>23</cp:revision>
  <dc:subject/>
  <dc:title>Dissertation Propos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